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4EC-A8D6-40D3-8841-1EA1CDBA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03B-FA34-4571-B93C-6177133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2C4-4B36-43B6-B896-B7942ED8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1F4-1327-4A8B-9105-3EEC215C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A44-3C1B-4DEC-AF92-CC4237E0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398-FBCB-45A5-AD2A-5E3ADEC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85E-9BD3-424A-A0EF-6A41E6F4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162-4890-4E45-B1D5-4CA42D02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DE9-2753-4B0D-B4BB-779D40C4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FB4-E6BE-44EE-B218-D7F0987B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780-D5E7-4C7C-931E-55EFBE6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104-ACD7-4272-8C51-14FC374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4EF6-401C-4D3C-B9FD-27219343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2:58Z</dcterms:modified>
  <cp:revision>3</cp:revision>
  <dc:subject/>
  <dc:title>Words in a “Snap”</dc:title>
</cp:coreProperties>
</file>